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jpeg" ContentType="image/jpeg"/>
  <Override PartName="/ppt/media/image18.gif" ContentType="image/gif"/>
  <Override PartName="/ppt/media/image17.png" ContentType="image/png"/>
  <Override PartName="/ppt/media/image32.jpeg" ContentType="image/jpe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gif" ContentType="image/gif"/>
  <Override PartName="/ppt/media/image41.jpeg" ContentType="image/jpeg"/>
  <Override PartName="/ppt/media/image30.png" ContentType="image/png"/>
  <Override PartName="/ppt/media/image37.jpeg" ContentType="image/jpeg"/>
  <Override PartName="/ppt/media/image13.png" ContentType="image/png"/>
  <Override PartName="/ppt/media/image31.jpeg" ContentType="image/jpeg"/>
  <Override PartName="/ppt/media/image33.png" ContentType="image/png"/>
  <Override PartName="/ppt/media/image39.jpeg" ContentType="image/jpeg"/>
  <Override PartName="/ppt/media/image45.gif" ContentType="image/gif"/>
  <Override PartName="/ppt/media/image8.png" ContentType="image/png"/>
  <Override PartName="/ppt/media/image34.jpeg" ContentType="image/jpeg"/>
  <Override PartName="/ppt/media/image28.jpeg" ContentType="image/jpeg"/>
  <Override PartName="/ppt/media/image4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4.gif" ContentType="image/gif"/>
  <Override PartName="/ppt/media/image9.png" ContentType="image/png"/>
  <Override PartName="/ppt/media/image22.jpeg" ContentType="image/jpeg"/>
  <Override PartName="/ppt/media/image3.gif" ContentType="image/gif"/>
  <Override PartName="/ppt/media/image6.png" ContentType="image/png"/>
  <Override PartName="/ppt/media/image11.png" ContentType="image/png"/>
  <Override PartName="/ppt/media/image2.gif" ContentType="image/gif"/>
  <Override PartName="/ppt/media/image42.jpeg" ContentType="image/jpeg"/>
  <Override PartName="/ppt/media/image5.png" ContentType="image/png"/>
  <Override PartName="/ppt/media/image43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6017-93CA-4E48-9791-3B72B94D0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0D79-19AD-43D4-951D-29B19197C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74DE-B43A-4618-B0EB-90D7760D3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9AAD-AE05-4F65-8375-26442C1BB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E0BA-A1F1-4141-97FE-DC40F8C67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143000" y="7621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93C1-F5CC-4769-B75B-4425E84AF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2DFB-42EC-467C-8F95-C7B39D99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46A1-37AD-4825-90BB-B6746FFB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A295-689C-47EA-B0B7-9AE5845D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6042-8167-4211-9361-E0818ED19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B661-D75A-4025-9819-EBA3F7AD7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1DAB-6C3D-4AF7-B673-BCF739113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3000" y="7621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462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565280" indent="-22860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98432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40336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40336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40336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" name="gif04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415440" y="36360"/>
            <a:ext cx="155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ff"/>
                </a:solidFill>
                <a:latin typeface="Arial"/>
                <a:ea typeface="黑体"/>
              </a:rPr>
              <a:t>第</a:t>
            </a:r>
            <a:r>
              <a:rPr b="1" lang="zh-CN" sz="1800" spc="-1" strike="noStrike">
                <a:solidFill>
                  <a:srgbClr val="00ffff"/>
                </a:solidFill>
                <a:latin typeface="Arial"/>
                <a:ea typeface="黑体"/>
              </a:rPr>
              <a:t>4</a:t>
            </a:r>
            <a:r>
              <a:rPr b="1" lang="zh-CN" sz="1800" spc="-1" strike="noStrike">
                <a:solidFill>
                  <a:srgbClr val="00ffff"/>
                </a:solidFill>
                <a:latin typeface="Arial"/>
                <a:ea typeface="黑体"/>
              </a:rPr>
              <a:t>章   数据库管理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>
            <a:off x="2895480" y="6461280"/>
            <a:ext cx="1524240" cy="39888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6b19c"/>
                </a:solidFill>
                <a:latin typeface="Times New Roman"/>
                <a:ea typeface="华文行楷"/>
              </a:rPr>
              <a:t>上一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nextslide"/>
          </p:cNvPr>
          <p:cNvSpPr/>
          <p:nvPr/>
        </p:nvSpPr>
        <p:spPr>
          <a:xfrm>
            <a:off x="4952880" y="6461280"/>
            <a:ext cx="1524240" cy="39888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6b19c"/>
                </a:solidFill>
                <a:latin typeface="Times New Roman"/>
                <a:ea typeface="华文行楷"/>
              </a:rPr>
              <a:t>下一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firstslide"/>
          </p:cNvPr>
          <p:cNvSpPr/>
          <p:nvPr/>
        </p:nvSpPr>
        <p:spPr>
          <a:xfrm>
            <a:off x="6934320" y="6461280"/>
            <a:ext cx="2209680" cy="39888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6b19c"/>
                </a:solidFill>
                <a:latin typeface="Times New Roman"/>
                <a:ea typeface="华文行楷"/>
              </a:rPr>
              <a:t>返回本章首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" name="gif016" descr=""/>
          <p:cNvPicPr/>
          <p:nvPr/>
        </p:nvPicPr>
        <p:blipFill>
          <a:blip r:embed="rId3"/>
          <a:stretch/>
        </p:blipFill>
        <p:spPr>
          <a:xfrm>
            <a:off x="0" y="6275520"/>
            <a:ext cx="9144000" cy="201600"/>
          </a:xfrm>
          <a:prstGeom prst="rect">
            <a:avLst/>
          </a:prstGeom>
          <a:ln w="0">
            <a:noFill/>
          </a:ln>
        </p:spPr>
      </p:pic>
      <p:pic>
        <p:nvPicPr>
          <p:cNvPr id="8" name="cartoon1" descr=""/>
          <p:cNvPicPr/>
          <p:nvPr/>
        </p:nvPicPr>
        <p:blipFill>
          <a:blip r:embed="rId4"/>
          <a:stretch/>
        </p:blipFill>
        <p:spPr>
          <a:xfrm>
            <a:off x="1752480" y="6423120"/>
            <a:ext cx="514440" cy="434880"/>
          </a:xfrm>
          <a:prstGeom prst="rect">
            <a:avLst/>
          </a:prstGeom>
          <a:ln w="0">
            <a:noFill/>
          </a:ln>
        </p:spPr>
      </p:pic>
      <p:pic>
        <p:nvPicPr>
          <p:cNvPr id="9" name="cartoon11" descr=""/>
          <p:cNvPicPr/>
          <p:nvPr/>
        </p:nvPicPr>
        <p:blipFill>
          <a:blip r:embed="rId5"/>
          <a:stretch/>
        </p:blipFill>
        <p:spPr>
          <a:xfrm>
            <a:off x="228600" y="6400800"/>
            <a:ext cx="57168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49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07EA9-A27D-4CCB-BE27-4BB3278E80AC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" Target="slide34.xml"/><Relationship Id="rId5" Type="http://schemas.openxmlformats.org/officeDocument/2006/relationships/slide" Target="slide53.xml"/><Relationship Id="rId6" Type="http://schemas.openxmlformats.org/officeDocument/2006/relationships/slide" Target="slide53.xml"/><Relationship Id="rId7" Type="http://schemas.openxmlformats.org/officeDocument/2006/relationships/slide" Target="slide59.xml"/><Relationship Id="rId8" Type="http://schemas.openxmlformats.org/officeDocument/2006/relationships/hyperlink" Target="file:///&#31532;3&#31456;%20%20%20&#26381;&#21153;&#22120;&#31649;&#29702;.ppt" TargetMode="External"/><Relationship Id="rId9" Type="http://schemas.openxmlformats.org/officeDocument/2006/relationships/hyperlink" Target="file:///&#30446;&#24405;.ppt" TargetMode="External"/><Relationship Id="rId10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&#31243;&#24207;&#28165;&#21333;4-1.doc" TargetMode="External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&#31243;&#24207;&#28165;&#21333;4-2.doc" TargetMode="External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file:///&#31243;&#24207;&#28165;&#21333;4-3.doc" TargetMode="External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" Target="slide35.xml"/><Relationship Id="rId3" Type="http://schemas.openxmlformats.org/officeDocument/2006/relationships/image" Target="../media/image19.png"/><Relationship Id="rId4" Type="http://schemas.openxmlformats.org/officeDocument/2006/relationships/slide" Target="slide37.xml"/><Relationship Id="rId5" Type="http://schemas.openxmlformats.org/officeDocument/2006/relationships/image" Target="../media/image19.png"/><Relationship Id="rId6" Type="http://schemas.openxmlformats.org/officeDocument/2006/relationships/slide" Target="slide43.xml"/><Relationship Id="rId7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" Target="slide54.xml"/><Relationship Id="rId3" Type="http://schemas.openxmlformats.org/officeDocument/2006/relationships/image" Target="../media/image29.png"/><Relationship Id="rId4" Type="http://schemas.openxmlformats.org/officeDocument/2006/relationships/slide" Target="slide55.xml"/><Relationship Id="rId5" Type="http://schemas.openxmlformats.org/officeDocument/2006/relationships/image" Target="../media/image29.png"/><Relationship Id="rId6" Type="http://schemas.openxmlformats.org/officeDocument/2006/relationships/slide" Target="slide58.xml"/><Relationship Id="rId7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27.xml"/><Relationship Id="rId3" Type="http://schemas.openxmlformats.org/officeDocument/2006/relationships/slide" Target="slide32.xml"/><Relationship Id="rId4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5.gif"/><Relationship Id="rId2" Type="http://schemas.openxmlformats.org/officeDocument/2006/relationships/hyperlink" Target="file:///&#31532;5&#31456;%20%20%20%20&#25968;&#25454;&#24211;&#23545;&#35937;&#30340;&#25805;&#20316;.ppt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560" y="1218960"/>
            <a:ext cx="7467480" cy="57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ffff"/>
                </a:solidFill>
                <a:latin typeface="Arial"/>
                <a:ea typeface="黑体"/>
              </a:rPr>
              <a:t>第</a:t>
            </a:r>
            <a:r>
              <a:rPr b="1" lang="zh-CN" sz="3000" spc="-1" strike="noStrike">
                <a:solidFill>
                  <a:srgbClr val="00ffff"/>
                </a:solidFill>
                <a:latin typeface="Arial"/>
                <a:ea typeface="黑体"/>
              </a:rPr>
              <a:t>4</a:t>
            </a:r>
            <a:r>
              <a:rPr b="1" lang="zh-CN" sz="3000" spc="-1" strike="noStrike">
                <a:solidFill>
                  <a:srgbClr val="00ffff"/>
                </a:solidFill>
                <a:latin typeface="Arial"/>
                <a:ea typeface="黑体"/>
              </a:rPr>
              <a:t>章   数据库管理</a:t>
            </a: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00200" y="2133360"/>
            <a:ext cx="6145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4.1   数据库的存储结构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4.2   </a:t>
            </a:r>
            <a:r>
              <a:rPr b="1" lang="zh-CN" sz="28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创建、修改和删除数据库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4.3   数据库备份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5" action="ppaction://hlinksldjump"/>
              </a:rPr>
              <a:t>4.4   </a:t>
            </a:r>
            <a:r>
              <a:rPr b="1" lang="zh-CN" sz="28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6" action="ppaction://hlinksldjump"/>
              </a:rPr>
              <a:t>恢复数据库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4.5   数据库的维护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>
            <a:hlinkClick r:id="rId8"/>
          </p:cNvPr>
          <p:cNvSpPr/>
          <p:nvPr/>
        </p:nvSpPr>
        <p:spPr>
          <a:xfrm>
            <a:off x="2895480" y="6461280"/>
            <a:ext cx="1524240" cy="39888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6b19c"/>
                </a:solidFill>
                <a:latin typeface="Times New Roman"/>
                <a:ea typeface="华文行楷"/>
              </a:rPr>
              <a:t>上一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>
            <a:hlinkClick r:id="rId9"/>
          </p:cNvPr>
          <p:cNvSpPr/>
          <p:nvPr/>
        </p:nvSpPr>
        <p:spPr>
          <a:xfrm>
            <a:off x="7086600" y="6461280"/>
            <a:ext cx="2057400" cy="39888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6b19c"/>
                </a:solidFill>
                <a:latin typeface="Times New Roman"/>
                <a:ea typeface="华文行楷"/>
              </a:rPr>
              <a:t>返回目录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014640" y="15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3-1" descr=""/>
          <p:cNvPicPr/>
          <p:nvPr/>
        </p:nvPicPr>
        <p:blipFill>
          <a:blip r:embed="rId1"/>
          <a:stretch/>
        </p:blipFill>
        <p:spPr>
          <a:xfrm>
            <a:off x="1828800" y="1219320"/>
            <a:ext cx="3795840" cy="4572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251400" y="1412640"/>
            <a:ext cx="546120" cy="41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1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选择向导对话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928960" y="22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3.2" descr=""/>
          <p:cNvPicPr/>
          <p:nvPr/>
        </p:nvPicPr>
        <p:blipFill>
          <a:blip r:embed="rId1">
            <a:grayscl/>
            <a:lum contrast="18000"/>
          </a:blip>
          <a:stretch/>
        </p:blipFill>
        <p:spPr>
          <a:xfrm>
            <a:off x="1752480" y="1219320"/>
            <a:ext cx="5181840" cy="38005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754360" y="5257800"/>
            <a:ext cx="378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2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欢迎使用创建数据库向导对话框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77164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3.3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333760" cy="38102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2439000" y="5486400"/>
            <a:ext cx="396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3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输入数据库名称和文件位置对话框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80044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3.4" descr=""/>
          <p:cNvPicPr/>
          <p:nvPr/>
        </p:nvPicPr>
        <p:blipFill>
          <a:blip r:embed="rId1"/>
          <a:stretch/>
        </p:blipFill>
        <p:spPr>
          <a:xfrm>
            <a:off x="1371600" y="990720"/>
            <a:ext cx="5791320" cy="42037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841760" y="5410080"/>
            <a:ext cx="480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4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定义数据库文件逻辑名称及初始大小对话话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771640" y="21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3.5" descr=""/>
          <p:cNvPicPr/>
          <p:nvPr/>
        </p:nvPicPr>
        <p:blipFill>
          <a:blip r:embed="rId1"/>
          <a:stretch/>
        </p:blipFill>
        <p:spPr>
          <a:xfrm>
            <a:off x="1371600" y="1219320"/>
            <a:ext cx="5791320" cy="41050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2619720" y="5451480"/>
            <a:ext cx="34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5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定义数据库增长信息对话框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809800" y="21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3.6" descr=""/>
          <p:cNvPicPr/>
          <p:nvPr/>
        </p:nvPicPr>
        <p:blipFill>
          <a:blip r:embed="rId1"/>
          <a:stretch/>
        </p:blipFill>
        <p:spPr>
          <a:xfrm>
            <a:off x="1447920" y="1066680"/>
            <a:ext cx="5715000" cy="41403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2181960" y="5486400"/>
            <a:ext cx="451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6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定义事务日志文件名称及初始大小对话框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809800" y="21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3.7" descr=""/>
          <p:cNvPicPr/>
          <p:nvPr/>
        </p:nvPicPr>
        <p:blipFill>
          <a:blip r:embed="rId1"/>
          <a:stretch/>
        </p:blipFill>
        <p:spPr>
          <a:xfrm>
            <a:off x="1447920" y="1066680"/>
            <a:ext cx="5715000" cy="41547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451600" y="5410080"/>
            <a:ext cx="396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7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定义事务日志文件增长信息对话框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8861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3.8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5715000" cy="41497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2808720" y="5486400"/>
            <a:ext cx="305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8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确认创建数据库对话框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（</a:t>
            </a: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2</a:t>
            </a: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）使用企业管理器创建数据库 </a:t>
            </a: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（１）在企业管理器中，单击工具栏中的         图标，或在数据库文件夹或其下属任一数据库图标上单击右键，选择新建数据库选项，就会出现如图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4-9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所示的对话框。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（２）在常规（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General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）页框中，要求用户输入数据库名称以及排序规则名称。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（３）点击数据文件（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Data Files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）页框，该页框用来输入数据库文件的逻辑名称、存储位置、初始容量大小和所属文件组名称，如图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4-10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所示。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（４）点击事务日志（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Transaction Log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）页框，该页框用来设置事务日志文件信息，如图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4-11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所示。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（５）单击图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4-11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中的“确定”按钮，则开始创建新的数据库。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48632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第三章小图标2" descr=""/>
          <p:cNvPicPr/>
          <p:nvPr/>
        </p:nvPicPr>
        <p:blipFill>
          <a:blip r:embed="rId1"/>
          <a:stretch/>
        </p:blipFill>
        <p:spPr>
          <a:xfrm>
            <a:off x="5562720" y="1905120"/>
            <a:ext cx="39024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895480" y="19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3.9" descr=""/>
          <p:cNvPicPr/>
          <p:nvPr/>
        </p:nvPicPr>
        <p:blipFill>
          <a:blip r:embed="rId1"/>
          <a:stretch/>
        </p:blipFill>
        <p:spPr>
          <a:xfrm>
            <a:off x="2133720" y="1295280"/>
            <a:ext cx="4419360" cy="39052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511360" y="5486400"/>
            <a:ext cx="370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9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创建数据库对话框中的常规页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1523520"/>
            <a:ext cx="6705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4.1   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数据库的存储结构 </a:t>
            </a: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5640" y="2895120"/>
            <a:ext cx="57150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4.1.1  数据库文件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4.1.2  数据库文件组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82888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3.10" descr=""/>
          <p:cNvPicPr/>
          <p:nvPr/>
        </p:nvPicPr>
        <p:blipFill>
          <a:blip r:embed="rId1"/>
          <a:stretch/>
        </p:blipFill>
        <p:spPr>
          <a:xfrm>
            <a:off x="1905120" y="1066680"/>
            <a:ext cx="4562280" cy="40388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264760" y="5410080"/>
            <a:ext cx="42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10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创建数据库对话框中的数据文件页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80512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3.11" descr=""/>
          <p:cNvPicPr/>
          <p:nvPr/>
        </p:nvPicPr>
        <p:blipFill>
          <a:blip r:embed="rId1"/>
          <a:stretch/>
        </p:blipFill>
        <p:spPr>
          <a:xfrm>
            <a:off x="1981080" y="1219320"/>
            <a:ext cx="4648320" cy="40590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2255040" y="5562720"/>
            <a:ext cx="42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11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创建数据库对话框中的事务日志页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467840" cy="36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） 使用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Transact-SQL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语言创建数据库，语法如下：</a:t>
            </a:r>
            <a:endParaRPr b="1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71625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CREATE DATABASE database_name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[ON [PRIMARY]  [&lt;filespec&gt; [</a:t>
            </a:r>
            <a:r>
              <a:rPr b="1" lang="zh-CN" sz="2000" spc="-1" strike="noStrike">
                <a:solidFill>
                  <a:srgbClr val="ffffff"/>
                </a:solidFill>
                <a:latin typeface="Courier New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…</a:t>
            </a:r>
            <a:r>
              <a:rPr b="1" lang="zh-CN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n]  [</a:t>
            </a:r>
            <a:r>
              <a:rPr b="1" lang="zh-CN" sz="2000" spc="-1" strike="noStrike">
                <a:solidFill>
                  <a:srgbClr val="ffffff"/>
                </a:solidFill>
                <a:latin typeface="Courier New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&lt;filegroupspec&gt; [</a:t>
            </a:r>
            <a:r>
              <a:rPr b="1" lang="zh-CN" sz="2000" spc="-1" strike="noStrike">
                <a:solidFill>
                  <a:srgbClr val="ffffff"/>
                </a:solidFill>
                <a:latin typeface="Courier New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…</a:t>
            </a:r>
            <a:r>
              <a:rPr b="1" lang="zh-CN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n]]  ]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</a:t>
            </a:r>
            <a:r>
              <a:rPr b="1" lang="zh-CN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[LOG ON {&lt;filespec&gt; [</a:t>
            </a:r>
            <a:r>
              <a:rPr b="1" lang="zh-CN" sz="2000" spc="-1" strike="noStrike">
                <a:solidFill>
                  <a:srgbClr val="ffffff"/>
                </a:solidFill>
                <a:latin typeface="Courier New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…</a:t>
            </a:r>
            <a:r>
              <a:rPr b="1" lang="zh-CN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n]}]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</a:t>
            </a:r>
            <a:r>
              <a:rPr b="1" lang="zh-CN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[FOR RESTORE]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&lt;filespec&gt;::=([NAME=logical_file_name</a:t>
            </a:r>
            <a:r>
              <a:rPr b="1" lang="zh-CN" sz="2000" spc="-1" strike="noStrike">
                <a:solidFill>
                  <a:srgbClr val="ffffff"/>
                </a:solidFill>
                <a:latin typeface="Courier New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]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FILENAME=</a:t>
            </a:r>
            <a:r>
              <a:rPr b="1" lang="zh-CN" sz="2000" spc="-1" strike="noStrike">
                <a:solidFill>
                  <a:srgbClr val="ffffff"/>
                </a:solidFill>
                <a:latin typeface="Courier New"/>
              </a:rPr>
              <a:t>‘</a:t>
            </a:r>
            <a:r>
              <a:rPr b="1" lang="zh-CN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os_file_name</a:t>
            </a:r>
            <a:r>
              <a:rPr b="1" lang="zh-CN" sz="2000" spc="-1" strike="noStrike">
                <a:solidFill>
                  <a:srgbClr val="ffffff"/>
                </a:solidFill>
                <a:latin typeface="Courier New"/>
              </a:rPr>
              <a:t>’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[</a:t>
            </a:r>
            <a:r>
              <a:rPr b="1" lang="zh-CN" sz="2000" spc="-1" strike="noStrike">
                <a:solidFill>
                  <a:srgbClr val="ffffff"/>
                </a:solidFill>
                <a:latin typeface="Courier New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SIZE=size]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[</a:t>
            </a:r>
            <a:r>
              <a:rPr b="1" lang="zh-CN" sz="2000" spc="-1" strike="noStrike">
                <a:solidFill>
                  <a:srgbClr val="ffffff"/>
                </a:solidFill>
                <a:latin typeface="Courier New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MAXSIZE={max_size|UNLIMITED}]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[</a:t>
            </a:r>
            <a:r>
              <a:rPr b="1" lang="zh-CN" sz="2000" spc="-1" strike="noStrike">
                <a:solidFill>
                  <a:srgbClr val="ffffff"/>
                </a:solidFill>
                <a:latin typeface="Courier New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FILEGROWTH=growth_increment] )  [</a:t>
            </a:r>
            <a:r>
              <a:rPr b="1" lang="zh-CN" sz="2000" spc="-1" strike="noStrike">
                <a:solidFill>
                  <a:srgbClr val="ffffff"/>
                </a:solidFill>
                <a:latin typeface="Courier New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…</a:t>
            </a:r>
            <a:r>
              <a:rPr b="1" lang="zh-CN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n]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&lt;filegroupspec&gt;::=FILEGROUP filegroup_name &lt;filespec&gt; [</a:t>
            </a:r>
            <a:r>
              <a:rPr b="1" lang="zh-CN" sz="2000" spc="-1" strike="noStrike">
                <a:solidFill>
                  <a:srgbClr val="ffffff"/>
                </a:solidFill>
                <a:latin typeface="Courier New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…</a:t>
            </a:r>
            <a:r>
              <a:rPr b="1" lang="zh-CN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n]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83808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7200" indent="-187200"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database_name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：数据库的名称，最长为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128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个字符。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187200" indent="-187200"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PRIMARY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：该选项是一个关键字，指定主文件组中的文件。 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187200" indent="-187200"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LOG ON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：指明事务日志文件的明确定义。 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187200" indent="-187200"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NAME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：指定数据库的逻辑名称，这是在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SQL Server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系统中使用的名称，是数据库在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SQL Server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中的标识符。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26360" y="101592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各参数说明如下：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762120" y="15238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7200" indent="-187200"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FILENAME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：指定数据库所在文件的操作系统文件名称和路径，该操作系统文件名和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NAME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的逻辑名称一一对应。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187200" indent="-187200"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SIZE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：指定数据库的初始容量大小。 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187200" indent="-187200"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MAXSIZE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：指定操作系统文件可以增长到的最大尺寸。 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187200" indent="-187200"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FILEGROWTH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：指定文件每次增加容量的大小，当指定数据为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时，表示文件不增长。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例子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4-1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：创建了一个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Company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数据库 </a:t>
            </a: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创建了一个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Company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数据库，该数据库的主数据文件逻辑名称为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Company_data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，物理文件名为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Company.mdf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，初始大小为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10MB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，最大尺寸为无限大，增长速度为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10%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；数据库的日志文件逻辑名称为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Company_log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，物理文件名为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Company.ldf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，初始大小为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1MB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，最大尺寸为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5MB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，增长速度为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1MB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程序清单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4-1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： 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81280" y="4952880"/>
            <a:ext cx="12193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91440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ffff"/>
                </a:solidFill>
                <a:latin typeface="Times New Roman"/>
              </a:rPr>
              <a:t>例子</a:t>
            </a:r>
            <a:r>
              <a:rPr b="1" lang="zh-CN" sz="2600" spc="-1" strike="noStrike">
                <a:solidFill>
                  <a:srgbClr val="00ffff"/>
                </a:solidFill>
                <a:latin typeface="Times New Roman"/>
              </a:rPr>
              <a:t>4-2</a:t>
            </a:r>
            <a:r>
              <a:rPr b="1" lang="zh-CN" sz="2600" spc="-1" strike="noStrike">
                <a:solidFill>
                  <a:srgbClr val="00ffff"/>
                </a:solidFill>
                <a:latin typeface="Times New Roman"/>
              </a:rPr>
              <a:t>：</a:t>
            </a:r>
            <a:r>
              <a:rPr b="1" lang="zh-CN" sz="2100" spc="-1" strike="noStrike">
                <a:solidFill>
                  <a:srgbClr val="00ffff"/>
                </a:solidFill>
                <a:latin typeface="Times New Roman"/>
              </a:rPr>
              <a:t>创建一个指定多个数据文件和日志文件的数据库</a:t>
            </a:r>
            <a:r>
              <a:rPr b="1" lang="zh-CN" sz="26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1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该数据库名称为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employees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有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个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0MB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个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0MB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的数据文件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个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0MB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的事务日志文件。数据文件逻辑名称为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employee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employee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物理文件名为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employee1.mdf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employee2.mdf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。主文件是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employee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由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primary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指定，两个数据文件的最大尺寸分别为无限大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00MB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增长速度分别为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0%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MB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。事务日志文件的逻辑名为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employeelog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employeelog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物理文件名为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employeelog1.ldf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employeelog2.ldf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最大尺寸均为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50MB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文件增长速度为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MB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其源程序为：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00400" y="5334120"/>
            <a:ext cx="12193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560" y="1219320"/>
            <a:ext cx="693396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ffff"/>
                </a:solidFill>
                <a:latin typeface="Arial"/>
                <a:ea typeface="Arial"/>
              </a:rPr>
              <a:t>4.2.2  </a:t>
            </a:r>
            <a:r>
              <a:rPr b="0" lang="zh-CN" sz="3000" spc="-1" strike="noStrike">
                <a:solidFill>
                  <a:srgbClr val="00ffff"/>
                </a:solidFill>
                <a:latin typeface="Arial"/>
                <a:ea typeface="黑体"/>
              </a:rPr>
              <a:t>修改数据库</a:t>
            </a: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2120" y="2514600"/>
            <a:ext cx="77724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利用企业管理器修改数据库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使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ALTER DATABAS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语句修改数据库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1. </a:t>
            </a: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利用企业管理器修改数据库</a:t>
            </a: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设置中的各选项说明如下 ：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ANSI NULL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默认设置：允许在数据库表的列中输入空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NULL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值。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递归触发器：允许触发器递归调用。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SQL Server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设定的触发器递归调用的层数最多为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3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层。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自动更新统计信息：允许使用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SELECT INTO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或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BCP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WRITETEXT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UPDATETEXT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命令向表中大量插入数据。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残缺页检测：允许自动检测有损坏的页。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自动关闭：当数据库中无用户时，自动关闭该数据库，并将所占用的资源交还给操作系统。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1066680" y="1447920"/>
            <a:ext cx="7143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自动收缩：允许定期对数据库进行检查，当数据库文件或日志文件的未用空间超过其大小的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25%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时，系统将会自动缩减文件使其未用空间等于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25%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自动创建统计信息：在优化查询（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Query Optimizer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）时，根据需要自动创建统计信息。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使用被引用的标识符：标识符必须用双引号括起来，且可以不遵循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Transact-SQL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命名标准。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7467840" cy="57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4.1.1  </a:t>
            </a: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数据库文件</a:t>
            </a: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7696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逻辑存储结构和物理存储结构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一、数据库的逻辑存储结构指的是数据库是由哪些性质的信息所组成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SQL Server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的数据库不仅仅只是数据的存储，所有与数据处理操作相关的信息都存储在数据库中。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二、数据库的物理存储结构则是讨论数据库文件是如何在磁盘上存储的，数据库在磁盘上是以文件为单位存储的，由数据库文件和事务日志文件组成，一个数据库至少应该包含一个数据库文件和一个事务日志文件。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ffff"/>
                </a:solidFill>
                <a:latin typeface="Times New Roman"/>
              </a:rPr>
              <a:t>2. </a:t>
            </a:r>
            <a:r>
              <a:rPr b="1" lang="zh-CN" sz="2600" spc="-1" strike="noStrike">
                <a:solidFill>
                  <a:srgbClr val="00ffff"/>
                </a:solidFill>
                <a:latin typeface="Times New Roman"/>
              </a:rPr>
              <a:t>使用</a:t>
            </a:r>
            <a:r>
              <a:rPr b="1" lang="zh-CN" sz="2600" spc="-1" strike="noStrike">
                <a:solidFill>
                  <a:srgbClr val="00ffff"/>
                </a:solidFill>
                <a:latin typeface="Times New Roman"/>
              </a:rPr>
              <a:t>ALTER DATABASE</a:t>
            </a:r>
            <a:r>
              <a:rPr b="1" lang="zh-CN" sz="2600" spc="-1" strike="noStrike">
                <a:solidFill>
                  <a:srgbClr val="00ffff"/>
                </a:solidFill>
                <a:latin typeface="Times New Roman"/>
              </a:rPr>
              <a:t>语句修改数据库语法形式如下： </a:t>
            </a:r>
            <a:endParaRPr b="1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Alter database databasename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{add file&lt;filespec&gt;[,…n] [to filegroup filegroupname]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|add log file &lt;filespec&gt;[,…n]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|remove file logical_file_name [with delete]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|modify file &lt;filespec&gt;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|modify name=new_databasename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|add filegroup filegroup_name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|remove filegroup filegroup_name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|modify filegroup filegroup_name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{filegroup_property|name=new_filegroup_name}}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例子</a:t>
            </a: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4-3 </a:t>
            </a: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例子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-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：添加一个包含两个数据文件的文件组和一个事务日志文件到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employees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数据库中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程序清单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-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：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00600" y="3809880"/>
            <a:ext cx="12193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560" y="1447920"/>
            <a:ext cx="693396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4.2.3  </a:t>
            </a: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删除数据库 </a:t>
            </a: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772400" cy="31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利用企业管理器删除数据库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利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Drop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语句删除数据库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Drop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语句可以从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SQL Server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中一次删除一个或多个数据库。其语法如下：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Drop database database_name[,…n]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例子</a:t>
            </a: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4-4</a:t>
            </a: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：删除创建的数据库</a:t>
            </a: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company</a:t>
            </a: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。</a:t>
            </a: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447920" y="2209680"/>
            <a:ext cx="6858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程序清单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-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：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drop database company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输出结果为：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Deleting database file 'd:\mssql7\data\company.ldf'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Deleting database file 'd:\mssql7\data\company.mdf'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520" y="1371240"/>
            <a:ext cx="67820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4.3   </a:t>
            </a: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数据库备份</a:t>
            </a: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904760" y="2285640"/>
            <a:ext cx="5002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669960">
              <a:lnSpc>
                <a:spcPct val="2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4.3.1  备份概述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669960">
              <a:lnSpc>
                <a:spcPct val="2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4.3.2  创建备份设备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669960">
              <a:lnSpc>
                <a:spcPct val="2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4.3.3  备份的执行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106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4.3.1  </a:t>
            </a: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备份概述</a:t>
            </a: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637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备份就是对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SQL Server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数据库或事务日志进行备份，数据库备份记录了在进行备份这一操作时数据库中所有数据的状态，以便在数据库遭到破坏时能够及时地将其恢复。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62120" y="106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SQL Server 2000</a:t>
            </a: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四种备份方式</a:t>
            </a: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397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一）完全数据库备份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Dadabase-complet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1397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二）差异备份或称增量备份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Dadabase-differential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1397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三）事务日志备份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Transaction log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1397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四）数据库文件和文件组备份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File and filegroup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ffff"/>
                </a:solidFill>
                <a:latin typeface="Arial"/>
                <a:ea typeface="黑体"/>
              </a:rPr>
              <a:t>4.3.2  </a:t>
            </a:r>
            <a:r>
              <a:rPr b="0" lang="zh-CN" sz="3000" spc="-1" strike="noStrike">
                <a:solidFill>
                  <a:srgbClr val="00ffff"/>
                </a:solidFill>
                <a:latin typeface="Arial"/>
                <a:ea typeface="黑体"/>
              </a:rPr>
              <a:t>创建备份设备</a:t>
            </a: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4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在进行备份以前首先必须指定或创建备份设备，备份设备是用来存储数据库、事务日志或文件和文件组备份的存储介质，备份设备可以是硬盘、磁带或管道。当使用磁盘时，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SQL Server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允许将本地主机硬盘和远程主机上的硬盘作为备份设备，备份设备在硬盘中是以文件的方式存储的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创建备份设备的两种方法 ：</a:t>
            </a: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 .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使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SQL Server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企业管理器创建备份设备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如图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-17---4-18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所示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使用系统存储过程创建备份设备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SQL Server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中，可以使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sp_addumpdevic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语句创建备份设备，其语法形式如下：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</a:rPr>
              <a:t>sp_addumpdevice {‘device_type’}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[,’logical_name’][,’physical_name’][,{{controller_type|’device_status’}}]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295360" y="18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1" name="2" descr=""/>
          <p:cNvPicPr/>
          <p:nvPr/>
        </p:nvPicPr>
        <p:blipFill>
          <a:blip r:embed="rId1">
            <a:grayscl/>
            <a:lum contrast="6000"/>
          </a:blip>
          <a:srcRect l="0" t="0" r="0" b="8612"/>
          <a:stretch/>
        </p:blipFill>
        <p:spPr>
          <a:xfrm>
            <a:off x="1676520" y="1371600"/>
            <a:ext cx="5248080" cy="35910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2593080" y="5222880"/>
            <a:ext cx="375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17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使用企业管理器创建备份设备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560" y="1218960"/>
            <a:ext cx="7467480" cy="57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4.1.1  </a:t>
            </a: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数据库文件 </a:t>
            </a: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220932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主数据库文件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Primary Database Fil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辅助数据库文件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Secondary Database Fil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事务日志文件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200400" y="25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4" name="1" descr=""/>
          <p:cNvPicPr/>
          <p:nvPr/>
        </p:nvPicPr>
        <p:blipFill>
          <a:blip r:embed="rId1">
            <a:grayscl/>
            <a:lum contrast="18000"/>
          </a:blip>
          <a:stretch/>
        </p:blipFill>
        <p:spPr>
          <a:xfrm>
            <a:off x="1295280" y="1295280"/>
            <a:ext cx="5715000" cy="36910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477520" y="5334120"/>
            <a:ext cx="338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18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输入备份设备属性对话框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例子</a:t>
            </a: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4-5</a:t>
            </a: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：在磁盘上创建了一个备份设备</a:t>
            </a: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772400" cy="30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程序清单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-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：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</a:rPr>
              <a:t>use master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Courier New"/>
              </a:rPr>
              <a:t>exec sp_addumpdevice ‘disk’, ‘backup_company’, ‘c:\mssql7\backup\bk_company.bak’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删除备份设备 </a:t>
            </a: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删除备份设备与创建的过程类似，只须在企业管理器中选中要删除的备份设备，在弹出的菜单中选择删除选项即可删除该备份设备。或者使用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sp_dropdevice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语句来删除备份设备。其语法如下：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ourier New"/>
              </a:rPr>
              <a:t>sp_dropdevice [‘logical_name’][,’delfile’]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例子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6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：删除上面创建的备份设备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ourier New"/>
              </a:rPr>
              <a:t>sp_dropdevice ‘backup_company’, ‘c:\mssql7\backup\bk_company.bak’ 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12949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4.3.3  </a:t>
            </a: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备份的执行 </a:t>
            </a: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040" y="2209680"/>
            <a:ext cx="70866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SQL Server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系统提供了三种数据库备份操作的方法：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(1)SQL Server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企业管理器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(2)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备份向导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(3)Transact-SQL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语句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7772400" cy="68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１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. 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使用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SQL Server 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企业管理器进行备份 </a:t>
            </a: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１）启动企业管理器，登录到指定的数据库服务器，打开数据库文件夹，用右键单击所要进行备份的数据库图标，在弹出的快捷菜单中选择所有任务，再选择备份数据库 。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２）出现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SQL Server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备份对话框，对话框中有两个页框，即常规和选项页框。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３）在常规页框中，选择备份数据库的名称、操作的名称、描述信息、备份的类型、备份的介质、备份的执行时间。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４）通过单击添加按钮选择备份设备 。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５）选择调度复选框，来改变备份的时间安排。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6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在选项页框中进行附加设置 。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6629400" cy="68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ffff"/>
                </a:solidFill>
                <a:latin typeface="Times New Roman"/>
              </a:rPr>
              <a:t>２</a:t>
            </a:r>
            <a:r>
              <a:rPr b="1" lang="zh-CN" sz="2600" spc="-1" strike="noStrike">
                <a:solidFill>
                  <a:srgbClr val="00ffff"/>
                </a:solidFill>
                <a:latin typeface="Times New Roman"/>
              </a:rPr>
              <a:t>. </a:t>
            </a:r>
            <a:r>
              <a:rPr b="1" lang="zh-CN" sz="2600" spc="-1" strike="noStrike">
                <a:solidFill>
                  <a:srgbClr val="00ffff"/>
                </a:solidFill>
                <a:latin typeface="Times New Roman"/>
              </a:rPr>
              <a:t>使用备份向导 （图</a:t>
            </a:r>
            <a:r>
              <a:rPr b="1" lang="zh-CN" sz="2600" spc="-1" strike="noStrike">
                <a:solidFill>
                  <a:srgbClr val="00ffff"/>
                </a:solidFill>
                <a:latin typeface="Times New Roman"/>
              </a:rPr>
              <a:t>4-25 --</a:t>
            </a:r>
            <a:r>
              <a:rPr b="1" lang="zh-CN" sz="2600" spc="-1" strike="noStrike">
                <a:solidFill>
                  <a:srgbClr val="00ffff"/>
                </a:solidFill>
                <a:latin typeface="Times New Roman"/>
              </a:rPr>
              <a:t>图</a:t>
            </a:r>
            <a:r>
              <a:rPr b="1" lang="zh-CN" sz="2600" spc="-1" strike="noStrike">
                <a:solidFill>
                  <a:srgbClr val="00ffff"/>
                </a:solidFill>
                <a:latin typeface="Times New Roman"/>
              </a:rPr>
              <a:t>4-31</a:t>
            </a:r>
            <a:r>
              <a:rPr b="1" lang="zh-CN" sz="2600" spc="-1" strike="noStrike">
                <a:solidFill>
                  <a:srgbClr val="00ffff"/>
                </a:solidFill>
                <a:latin typeface="Times New Roman"/>
              </a:rPr>
              <a:t>） </a:t>
            </a:r>
            <a:endParaRPr b="1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881440" y="21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" name="9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523880" y="1828800"/>
            <a:ext cx="4662720" cy="34416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2285640" y="5638680"/>
            <a:ext cx="30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25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欢迎使用向导对话框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80044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9" name="10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828800" y="1424160"/>
            <a:ext cx="4800600" cy="35096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2851920" y="5334120"/>
            <a:ext cx="28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26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选择数据库对话框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2809800" y="21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2" name="11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600200" y="1219320"/>
            <a:ext cx="5038560" cy="37177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2382480" y="5410080"/>
            <a:ext cx="393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27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输入备份名称和描述信息对话框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2800440" y="21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5" name="12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447920" y="1143000"/>
            <a:ext cx="5200560" cy="381636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2241720" y="5299200"/>
            <a:ext cx="357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28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选择备份数据库类型对话框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2800440" y="212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8" name="13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447920" y="1066680"/>
            <a:ext cx="5124240" cy="37753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2160360" y="5334120"/>
            <a:ext cx="393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29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设置备份介质类型和属性对话框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137160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4.1.2  </a:t>
            </a: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数据库文件组 </a:t>
            </a: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42640" y="2361960"/>
            <a:ext cx="7211880" cy="31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为了便于分配和管理，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SQL Server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允许将多个文件归纳为同一组，并赋予此组一个名称，这就是文件组。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与数据库文件一样，文件组也分为主文件组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Primary File Group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和次文件组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Secondary File Group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。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805120" y="21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1" name="14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523880" y="1143000"/>
            <a:ext cx="5410440" cy="39816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2667240" y="5410080"/>
            <a:ext cx="31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30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备份验证和调度对话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2800440" y="21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4" name="15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523880" y="1066680"/>
            <a:ext cx="5200920" cy="381636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2421720" y="5334120"/>
            <a:ext cx="34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31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确认执行备份操作对话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3. </a:t>
            </a: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使用</a:t>
            </a: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Transact-SQL</a:t>
            </a: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语句备份数据库 </a:t>
            </a: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其语法形式如下：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Backup database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{database_name|@database_name_var}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to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&lt;backup_file&gt;[,…n]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[with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[[,]format]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[[,]{init|noinit}]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[[,]restart]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]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&lt;backup_file&gt;::={backup_file_name|@backup_file_evar}|{disk|tape|pipe}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={temp_file_name|@temp_file_name_evar}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520" y="1371240"/>
            <a:ext cx="6705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4.4   </a:t>
            </a: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恢复数据库 </a:t>
            </a: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057040" y="2285640"/>
            <a:ext cx="5715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669960">
              <a:lnSpc>
                <a:spcPct val="2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4.4.1  恢复概述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669960">
              <a:lnSpc>
                <a:spcPct val="2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4.4.2  恢复数据库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669960">
              <a:lnSpc>
                <a:spcPct val="2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4.4.3  恢复系统数据库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160" y="11426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4.4.1  </a:t>
            </a: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恢复概述 </a:t>
            </a: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761760" y="2209320"/>
            <a:ext cx="7543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数据库备份后，一旦系统发生崩溃或者执行了错误的数据库操作，就可以从备份文件中恢复数据库。数据库恢复是指将数据库备份加载到系统中的过程。系统在恢复数据库的过程中，自动执行安全性检查、重建数据库结构以及完整数据库内容。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4.4.2  </a:t>
            </a: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恢复数据库 </a:t>
            </a: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使用企业管理器恢复数据库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打开企业管理器，单击要登录的数据库服务器，然后从主菜单中选择工具，在菜单中选择还原数据库命令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在还原为数据库旁的下拉列表中选择要恢复的数据库，在还原组中通过单击单选按钮来选择相应的数据库备份类型。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选中选项页框，进行其它选项的设置 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228240" y="12189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其语法形式如下： 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Restore  database 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[from &lt;backup_device[],…n&gt;]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[with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[[,]file=file_number]                              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[[,]move ‘logical_file_name’ to ‘operating_system_file_name’]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[[,]replace]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[[,]{norecovery|recovery|standby=undo_file_name}]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]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&lt;backup_device&gt;::={{backup_device_name|@backup_device_name_evar}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|{disk|tape|pipe}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={temp_backup_device|@temp_backup_device_var}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27640" y="685800"/>
            <a:ext cx="43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.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使用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Transact-SQL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语句恢复数据库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1143000"/>
            <a:ext cx="74674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例子</a:t>
            </a: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4-7</a:t>
            </a: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：从备份设备中恢复数据库</a:t>
            </a: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从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backup_company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备份设备中恢复数据库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company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程序清单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-7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：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use master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restore database company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from backup_company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4.4.3  </a:t>
            </a: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恢复系统数据库 </a:t>
            </a: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关闭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SQL Server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运行系统安装目录下的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bi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子目录下的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rebuilem.ex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文件，这是个命令行程序，运行后可以重新创建系统数据库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系统数据库重新建立后，启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SQL Server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. SQL Server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启动后，系统数据库是空的，没有任何系统信息。因此，需要从备份数据库中恢复。一般是先恢复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master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数据库，再恢复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msdb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数据库，最后恢复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model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数据库。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4.5   </a:t>
            </a: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数据库的维护 </a:t>
            </a: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利用数据库的维护计划向导可以方便地设置数据库的核心维护任务，以便于定期地执行这些任务，其创建数据库维护计划的步骤如下：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如图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-35--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-49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所示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560" y="1295280"/>
            <a:ext cx="7467480" cy="57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4.2   </a:t>
            </a: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创建、修改和删除数据库</a:t>
            </a: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828440" y="2361960"/>
            <a:ext cx="49258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4.2.1  创建数据库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4.2.2  修改数据库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4.2.3  删除数据库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234324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3" name="3-35" descr=""/>
          <p:cNvPicPr/>
          <p:nvPr/>
        </p:nvPicPr>
        <p:blipFill>
          <a:blip r:embed="rId1"/>
          <a:stretch/>
        </p:blipFill>
        <p:spPr>
          <a:xfrm>
            <a:off x="1905120" y="1066680"/>
            <a:ext cx="4971960" cy="37404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2781360" y="5222880"/>
            <a:ext cx="357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35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选择数据库维护计划对话框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3157560" y="24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2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752480" y="1371600"/>
            <a:ext cx="4648320" cy="336384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2231280" y="5181480"/>
            <a:ext cx="375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36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欢迎使用维护计划向导对话框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315756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3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447920" y="1066680"/>
            <a:ext cx="4995720" cy="363240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2547000" y="5029200"/>
            <a:ext cx="28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37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选择数据库对话框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2967120" y="22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2" name="4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5033880" cy="36594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2271240" y="5105520"/>
            <a:ext cx="338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38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更新数据优化信息对话框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304308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5" name="6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523880" y="1219320"/>
            <a:ext cx="4881600" cy="352728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2431440" y="5070600"/>
            <a:ext cx="33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39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编辑循环作业调度对话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3038400" y="23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8" name="5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523880" y="1143000"/>
            <a:ext cx="5267520" cy="38275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2505960" y="5257800"/>
            <a:ext cx="338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40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检查数据库完整性对话框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280044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1" name="7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523880" y="1216080"/>
            <a:ext cx="5257800" cy="381636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2559240" y="5299200"/>
            <a:ext cx="357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41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指定数据库备份计划对话框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280044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4" name="8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523880" y="1295280"/>
            <a:ext cx="5257800" cy="381636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2123640" y="5486400"/>
            <a:ext cx="430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42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指定数据库备份文件存放目录对话框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280044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7" name="9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447920" y="1066680"/>
            <a:ext cx="5505480" cy="399600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2402640" y="5410080"/>
            <a:ext cx="375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43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指定事务日志备份计划对话框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2800440" y="21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0" name="10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752480" y="1295280"/>
            <a:ext cx="5124600" cy="369252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2363040" y="5257800"/>
            <a:ext cx="42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44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指定事务志文件备份存放目录对话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4.2.1  </a:t>
            </a: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创建数据库</a:t>
            </a: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47560" y="2286000"/>
            <a:ext cx="5916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每个数据库都由以下几个部分的数据库对象所组成：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关系图、表、视图、存储过程、用户、角色、规则、默认、用户自定义数据类型和用户自定义函数。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3038400" y="23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3" name="11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371600" y="1143000"/>
            <a:ext cx="5334120" cy="38768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2506680" y="5257800"/>
            <a:ext cx="33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4-45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维护计划生成报表对话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2967120" y="22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6" name="12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523880" y="1066680"/>
            <a:ext cx="5486400" cy="398952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2197080" y="5257800"/>
            <a:ext cx="440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46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指定维护计划历史记录存放位置对话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3038400" y="23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9" name="13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600200" y="1295280"/>
            <a:ext cx="4734000" cy="344016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2152080" y="5105520"/>
            <a:ext cx="38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47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指定数据库维护计划名称对话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239544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2" name="14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066680" y="1143000"/>
            <a:ext cx="6705720" cy="409428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446200" y="5486400"/>
            <a:ext cx="393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48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数据库维护计划对象选择对话框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2938320" y="202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5" name="15" descr=""/>
          <p:cNvPicPr/>
          <p:nvPr/>
        </p:nvPicPr>
        <p:blipFill>
          <a:blip r:embed="rId1">
            <a:grayscl/>
          </a:blip>
          <a:srcRect l="675" t="0" r="0" b="0"/>
          <a:stretch/>
        </p:blipFill>
        <p:spPr>
          <a:xfrm>
            <a:off x="1752480" y="1012680"/>
            <a:ext cx="4800600" cy="411480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2471760" y="5410080"/>
            <a:ext cx="34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49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数据库维护计划编辑对话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7090920" y="1799640"/>
            <a:ext cx="729000" cy="44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谢谢您的光临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914400" y="91440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Monotype Corsiva"/>
              </a:rPr>
              <a:t>Thank you very much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9" name="computer7" descr=""/>
          <p:cNvPicPr/>
          <p:nvPr/>
        </p:nvPicPr>
        <p:blipFill>
          <a:blip r:embed="rId1"/>
          <a:stretch/>
        </p:blipFill>
        <p:spPr>
          <a:xfrm>
            <a:off x="2743200" y="3048120"/>
            <a:ext cx="2514600" cy="1981080"/>
          </a:xfrm>
          <a:prstGeom prst="rect">
            <a:avLst/>
          </a:prstGeom>
          <a:ln w="0">
            <a:noFill/>
          </a:ln>
        </p:spPr>
      </p:pic>
      <p:sp>
        <p:nvSpPr>
          <p:cNvPr id="310" name="">
            <a:hlinkClick r:id="rId2"/>
          </p:cNvPr>
          <p:cNvSpPr/>
          <p:nvPr/>
        </p:nvSpPr>
        <p:spPr>
          <a:xfrm>
            <a:off x="4952880" y="6461280"/>
            <a:ext cx="1524240" cy="39888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6b19c"/>
                </a:solidFill>
                <a:latin typeface="Times New Roman"/>
                <a:ea typeface="华文行楷"/>
              </a:rPr>
              <a:t>下一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创建数据库的方法 </a:t>
            </a: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71600" y="2514600"/>
            <a:ext cx="678168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8360" indent="-19836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使用向导创建数据库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8360" indent="-19836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使用企业管理器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Enterprise Manager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创建数据库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8360" indent="-19836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使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Transact-SQL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语言创建数据库。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1371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（一）使用向导创建数据库</a:t>
            </a: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71240" y="2666520"/>
            <a:ext cx="675468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以下图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-1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到图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-8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是使用向导创建数据库 ，用户根据提示操作，即可创建数据库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7T02:18:19Z</dcterms:created>
  <dc:creator>haier</dc:creator>
  <dc:description/>
  <dc:language>en-US</dc:language>
  <cp:lastModifiedBy>lcb</cp:lastModifiedBy>
  <dcterms:modified xsi:type="dcterms:W3CDTF">2001-08-19T08:41:41Z</dcterms:modified>
  <cp:revision>65</cp:revision>
  <dc:subject/>
  <dc:title>第4章   数据库管理</dc:title>
</cp:coreProperties>
</file>